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EA4A-22E5-4725-A82C-F0EA1AD7E4C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56AA-A41E-4DE2-A3B0-3ADC78E6A96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’ve ever inflated a tire, you’ve probably made a pressure measurement in pounds (force) per square inch (are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e the particles. Are they all moving at the same speed?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o, the particles are moving at different sp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 particles interact with the walls and lid of the contain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particles bounce off the walls and lid of the conta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interactions contribute to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walls of the container. Pressure is defined as force per unit area. The SI units of pressure are newtons per square meter (N/m2), or pascals (P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change in temperature affect the speed of the molecu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n average, the molecules move f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change in temperature affect the volume of the contain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s the temperature rises, the volume of the container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as molecules fill container.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olecules move around and hit sides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llisions are the force   Container has the ar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1E0E-1A2E-44C9-A54C-2B219AF7A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E3C6-9AF3-4DD0-BD38-E39AA67E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5981-69DA-45B2-BE44-73FE1A8D1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04A6-9983-4D5B-8C24-96ACB8DEC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3215-28CA-469E-B13E-22653F5A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F8E9-DA64-4006-B788-74A24C3C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C29A-5CFF-4CF9-A532-F4CCB0A2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4E61-2651-45BF-B6E3-115BA5FD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D2BE-3445-464B-B560-ADDAB62D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8FB2-8A2A-4F25-94B1-6EE4B54A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2782-94F3-41FD-A58B-D94F77AB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CFF7-2B71-4594-90D5-6C10608F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789E-1FB3-4B06-90FC-88223BBAA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C:\Users\Nat\Desktop\TPA 2011\gas properties.jar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1.1 States of Matter and Kinetic Molecular Theory of G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la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of matter in terms of intermolecular forces and the motion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crib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as using the kinetic molecular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understanding of the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der PRESSUR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bsolute pressur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tual pressure exerted by a g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lative Pressur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essure exerted by a gas relative to atmospheric pressure (pressure exerted by the gases in the atmosphere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bsolute press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Relative pressure + atmospheric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57200" y="549360"/>
          <a:ext cx="8229600" cy="5676840"/>
        </p:xfrm>
        <a:graphic>
          <a:graphicData uri="http://schemas.openxmlformats.org/drawingml/2006/table">
            <a:tbl>
              <a:tblPr/>
              <a:tblGrid>
                <a:gridCol w="3665520"/>
                <a:gridCol w="1820880"/>
                <a:gridCol w="274320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Unit of pressu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Symbo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Instruments that use the uni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) Millimetres of Mercury: mm of Hg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mH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ood pressure me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) 1 Torr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r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cuum pump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) Pascal (Pa) the SI unit of pressure. 1 kPa = 1000 P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sure sensors in pipelin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) Bars: 1 bar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sure sensors in scooba ge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) Atmospheres (atm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m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s compresso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) Pounds per square in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ydraulic pump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mospheric Pres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force exerted on Earth’s surface by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lumn of air over a given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ewer gas molecules in air, pressure decreases with alt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P (standard temperature and pressur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°C and 101.3 k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732720" y="2781360"/>
            <a:ext cx="2189160" cy="3886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26920" y="4025880"/>
            <a:ext cx="58309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o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19720" y="1218960"/>
            <a:ext cx="44956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essure of the atmosphere at sea level will hold a column of mercury 760 mm H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atm = 760 mm 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4"/>
          <p:cNvSpPr/>
          <p:nvPr/>
        </p:nvSpPr>
        <p:spPr>
          <a:xfrm>
            <a:off x="1539720" y="4759200"/>
            <a:ext cx="1968480" cy="9050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"/>
          <p:cNvSpPr/>
          <p:nvPr/>
        </p:nvSpPr>
        <p:spPr>
          <a:xfrm>
            <a:off x="1600200" y="4876920"/>
            <a:ext cx="1881360" cy="107460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6"/>
          <p:cNvSpPr/>
          <p:nvPr/>
        </p:nvSpPr>
        <p:spPr>
          <a:xfrm>
            <a:off x="1539720" y="5527800"/>
            <a:ext cx="1968480" cy="904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1593720" y="5208480"/>
            <a:ext cx="0" cy="8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1593720" y="5411880"/>
            <a:ext cx="1871640" cy="423720"/>
          </a:xfrm>
          <a:prstGeom prst="rect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rc 9"/>
          <p:cNvSpPr/>
          <p:nvPr/>
        </p:nvSpPr>
        <p:spPr>
          <a:xfrm>
            <a:off x="1600200" y="5818320"/>
            <a:ext cx="1857240" cy="5158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fill="none" w="43086" h="21734">
                <a:moveTo>
                  <a:pt x="43086" y="2346"/>
                </a:moveTo>
                <a:cubicBezTo>
                  <a:pt x="41952" y="13360"/>
                  <a:pt x="32672" y="21733"/>
                  <a:pt x="21600" y="21734"/>
                </a:cubicBezTo>
                <a:cubicBezTo>
                  <a:pt x="9670" y="21734"/>
                  <a:pt x="0" y="12063"/>
                  <a:pt x="0" y="134"/>
                </a:cubicBezTo>
                <a:cubicBezTo>
                  <a:pt x="-1" y="89"/>
                  <a:pt x="0" y="44"/>
                  <a:pt x="0" y="0"/>
                </a:cubicBezTo>
              </a:path>
              <a:path stroke="0" w="43086" h="21734">
                <a:moveTo>
                  <a:pt x="43086" y="2346"/>
                </a:moveTo>
                <a:cubicBezTo>
                  <a:pt x="41952" y="13360"/>
                  <a:pt x="32672" y="21733"/>
                  <a:pt x="21600" y="21734"/>
                </a:cubicBezTo>
                <a:cubicBezTo>
                  <a:pt x="9670" y="21734"/>
                  <a:pt x="0" y="12063"/>
                  <a:pt x="0" y="134"/>
                </a:cubicBezTo>
                <a:cubicBezTo>
                  <a:pt x="-1" y="89"/>
                  <a:pt x="0" y="44"/>
                  <a:pt x="0" y="0"/>
                </a:cubicBezTo>
                <a:lnTo>
                  <a:pt x="21600" y="134"/>
                </a:lnTo>
                <a:close/>
              </a:path>
            </a:pathLst>
          </a:custGeom>
          <a:solidFill>
            <a:srgbClr val="919191"/>
          </a:solidFill>
          <a:ln cap="rnd"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0"/>
          <p:cNvSpPr/>
          <p:nvPr/>
        </p:nvSpPr>
        <p:spPr>
          <a:xfrm>
            <a:off x="1692360" y="5589720"/>
            <a:ext cx="1685880" cy="63792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rc 11"/>
          <p:cNvSpPr/>
          <p:nvPr/>
        </p:nvSpPr>
        <p:spPr>
          <a:xfrm>
            <a:off x="1531800" y="5095800"/>
            <a:ext cx="1981440" cy="657360"/>
          </a:xfrm>
          <a:custGeom>
            <a:avLst/>
            <a:gdLst>
              <a:gd name="textAreaLeft" fmla="*/ 0 w 1981440"/>
              <a:gd name="textAreaRight" fmla="*/ 1981800 w 1981440"/>
              <a:gd name="textAreaTop" fmla="*/ 0 h 657360"/>
              <a:gd name="textAreaBottom" fmla="*/ 657720 h 657360"/>
            </a:gdLst>
            <a:ahLst/>
            <a:rect l="textAreaLeft" t="textAreaTop" r="textAreaRight" b="textAreaBottom"/>
            <a:pathLst>
              <a:path fill="none" w="43200" h="27604">
                <a:moveTo>
                  <a:pt x="42348" y="0"/>
                </a:moveTo>
                <a:cubicBezTo>
                  <a:pt x="42913" y="1951"/>
                  <a:pt x="43200" y="3972"/>
                  <a:pt x="43200" y="6004"/>
                </a:cubicBezTo>
                <a:cubicBezTo>
                  <a:pt x="43200" y="17933"/>
                  <a:pt x="33529" y="27604"/>
                  <a:pt x="21600" y="27604"/>
                </a:cubicBezTo>
                <a:cubicBezTo>
                  <a:pt x="9670" y="27604"/>
                  <a:pt x="0" y="17933"/>
                  <a:pt x="0" y="6004"/>
                </a:cubicBezTo>
                <a:cubicBezTo>
                  <a:pt x="-1" y="4460"/>
                  <a:pt x="165" y="2921"/>
                  <a:pt x="493" y="1413"/>
                </a:cubicBezTo>
              </a:path>
              <a:path stroke="0" w="43200" h="27604">
                <a:moveTo>
                  <a:pt x="42348" y="0"/>
                </a:moveTo>
                <a:cubicBezTo>
                  <a:pt x="42913" y="1951"/>
                  <a:pt x="43200" y="3972"/>
                  <a:pt x="43200" y="6004"/>
                </a:cubicBezTo>
                <a:cubicBezTo>
                  <a:pt x="43200" y="17933"/>
                  <a:pt x="33529" y="27604"/>
                  <a:pt x="21600" y="27604"/>
                </a:cubicBezTo>
                <a:cubicBezTo>
                  <a:pt x="9670" y="27604"/>
                  <a:pt x="0" y="17933"/>
                  <a:pt x="0" y="6004"/>
                </a:cubicBezTo>
                <a:cubicBezTo>
                  <a:pt x="-1" y="4460"/>
                  <a:pt x="165" y="2921"/>
                  <a:pt x="493" y="1413"/>
                </a:cubicBezTo>
                <a:lnTo>
                  <a:pt x="21600" y="6004"/>
                </a:lnTo>
                <a:close/>
              </a:path>
            </a:pathLst>
          </a:custGeom>
          <a:noFill/>
          <a:ln cap="rnd"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3460680" y="5192640"/>
            <a:ext cx="0" cy="830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>
            <a:off x="1582560" y="5278320"/>
            <a:ext cx="0" cy="706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7"/>
          <p:cNvGrpSpPr/>
          <p:nvPr/>
        </p:nvGrpSpPr>
        <p:grpSpPr>
          <a:xfrm>
            <a:off x="2368440" y="912960"/>
            <a:ext cx="262080" cy="4527360"/>
            <a:chOff x="2368440" y="912960"/>
            <a:chExt cx="262080" cy="4527360"/>
          </a:xfrm>
        </p:grpSpPr>
        <p:sp>
          <p:nvSpPr>
            <p:cNvPr id="90" name="Line 14"/>
            <p:cNvSpPr/>
            <p:nvPr/>
          </p:nvSpPr>
          <p:spPr>
            <a:xfrm flipV="1">
              <a:off x="2368440" y="1176480"/>
              <a:ext cx="0" cy="426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5"/>
            <p:cNvSpPr/>
            <p:nvPr/>
          </p:nvSpPr>
          <p:spPr>
            <a:xfrm flipV="1">
              <a:off x="2627280" y="1157400"/>
              <a:ext cx="0" cy="426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rc 16"/>
            <p:cNvSpPr/>
            <p:nvPr/>
          </p:nvSpPr>
          <p:spPr>
            <a:xfrm>
              <a:off x="2371680" y="912960"/>
              <a:ext cx="258840" cy="2919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fill="none" w="43200" h="24913">
                  <a:moveTo>
                    <a:pt x="33" y="22809"/>
                  </a:moveTo>
                  <a:cubicBezTo>
                    <a:pt x="11" y="22406"/>
                    <a:pt x="0" y="2200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2709"/>
                    <a:pt x="-22422" y="23816"/>
                    <a:pt x="-22592" y="24913"/>
                  </a:cubicBezTo>
                </a:path>
                <a:path stroke="0" w="43200" h="24913">
                  <a:moveTo>
                    <a:pt x="33" y="22809"/>
                  </a:moveTo>
                  <a:cubicBezTo>
                    <a:pt x="11" y="22406"/>
                    <a:pt x="0" y="2200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2709"/>
                    <a:pt x="-22422" y="23816"/>
                    <a:pt x="-22592" y="24913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8"/>
          <p:cNvSpPr/>
          <p:nvPr/>
        </p:nvSpPr>
        <p:spPr>
          <a:xfrm>
            <a:off x="2397240" y="1257480"/>
            <a:ext cx="195120" cy="4098600"/>
          </a:xfrm>
          <a:prstGeom prst="rect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9"/>
          <p:cNvSpPr/>
          <p:nvPr/>
        </p:nvSpPr>
        <p:spPr>
          <a:xfrm>
            <a:off x="500040" y="2901960"/>
            <a:ext cx="1709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atm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0"/>
          <p:cNvSpPr/>
          <p:nvPr/>
        </p:nvSpPr>
        <p:spPr>
          <a:xfrm>
            <a:off x="1149480" y="4044960"/>
            <a:ext cx="1587240" cy="105408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1"/>
          <p:cNvSpPr/>
          <p:nvPr/>
        </p:nvSpPr>
        <p:spPr>
          <a:xfrm flipV="1">
            <a:off x="2971800" y="1297080"/>
            <a:ext cx="0" cy="396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2"/>
          <p:cNvSpPr/>
          <p:nvPr/>
        </p:nvSpPr>
        <p:spPr>
          <a:xfrm>
            <a:off x="2820960" y="1295280"/>
            <a:ext cx="303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3"/>
          <p:cNvSpPr/>
          <p:nvPr/>
        </p:nvSpPr>
        <p:spPr>
          <a:xfrm>
            <a:off x="2820960" y="5257800"/>
            <a:ext cx="303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4"/>
          <p:cNvSpPr/>
          <p:nvPr/>
        </p:nvSpPr>
        <p:spPr>
          <a:xfrm>
            <a:off x="3108240" y="2255760"/>
            <a:ext cx="13874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60 mm 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5"/>
          <p:cNvSpPr/>
          <p:nvPr/>
        </p:nvSpPr>
        <p:spPr>
          <a:xfrm>
            <a:off x="365040" y="884160"/>
            <a:ext cx="1768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cu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6"/>
          <p:cNvSpPr/>
          <p:nvPr/>
        </p:nvSpPr>
        <p:spPr>
          <a:xfrm flipV="1">
            <a:off x="2058840" y="1144440"/>
            <a:ext cx="379440" cy="74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228600" y="6400800"/>
            <a:ext cx="9372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Conversion: 1 atm = 760 mm of Hg = 101.325 kPa = 1.01325 bar = 760 torr = 14.7 p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 Life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il_fi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2447640" cy="1833480"/>
          </a:xfrm>
          <a:prstGeom prst="rect">
            <a:avLst/>
          </a:prstGeom>
          <a:ln w="0">
            <a:noFill/>
          </a:ln>
        </p:spPr>
      </p:pic>
      <p:pic>
        <p:nvPicPr>
          <p:cNvPr id="105" name="il_fi" descr=""/>
          <p:cNvPicPr/>
          <p:nvPr/>
        </p:nvPicPr>
        <p:blipFill>
          <a:blip r:embed="rId2"/>
          <a:stretch/>
        </p:blipFill>
        <p:spPr>
          <a:xfrm>
            <a:off x="3780000" y="1700280"/>
            <a:ext cx="1944360" cy="1944720"/>
          </a:xfrm>
          <a:prstGeom prst="rect">
            <a:avLst/>
          </a:prstGeom>
          <a:ln w="0">
            <a:noFill/>
          </a:ln>
        </p:spPr>
      </p:pic>
      <p:pic>
        <p:nvPicPr>
          <p:cNvPr id="106" name="il_fi" descr=""/>
          <p:cNvPicPr/>
          <p:nvPr/>
        </p:nvPicPr>
        <p:blipFill>
          <a:blip r:embed="rId3"/>
          <a:stretch/>
        </p:blipFill>
        <p:spPr>
          <a:xfrm>
            <a:off x="6804000" y="1628640"/>
            <a:ext cx="1548000" cy="2327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79280" y="4076640"/>
            <a:ext cx="295272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  <a:ea typeface="바탕"/>
              </a:rPr>
              <a:t>Bags of chips inflate as you drive at higher elevations since there is less external press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051440"/>
            <a:ext cx="2879640" cy="22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  <a:ea typeface="바탕"/>
              </a:rPr>
              <a:t>As balloons rise in the atmosphere, there is less external pressure. As a result, the balloon inflates more and then pop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59480" y="4076640"/>
            <a:ext cx="2289240" cy="260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In planes, the airs in your middle ear expands as you rise in altitude. This leaves the feeling of discomfort until your ear po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etic molecular theory of g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l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id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mospheric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3280" y="620640"/>
            <a:ext cx="6337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Particle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67373" r="0" b="0"/>
          <a:stretch/>
        </p:blipFill>
        <p:spPr>
          <a:xfrm>
            <a:off x="5940360" y="2602080"/>
            <a:ext cx="2814840" cy="2455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0" t="0" r="0" b="66319"/>
          <a:stretch/>
        </p:blipFill>
        <p:spPr>
          <a:xfrm>
            <a:off x="0" y="2492280"/>
            <a:ext cx="2995560" cy="2698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rcRect l="0" t="34768" r="0" b="32208"/>
          <a:stretch/>
        </p:blipFill>
        <p:spPr>
          <a:xfrm>
            <a:off x="2843280" y="2492280"/>
            <a:ext cx="295092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States of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704880"/>
                <a:gridCol w="1773360"/>
                <a:gridCol w="2226240"/>
                <a:gridCol w="3524760"/>
              </a:tblGrid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ucture/Proper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tion of partic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tractive for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rystal lat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ixed pos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ixed volu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compressi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brational- back and forth mo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o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eg.   electrostatic forces ( eg ioni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qu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ixed volu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compressi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articles can move past each other ( flo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bration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tational- spin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Wea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g.   Dipole-dipole forces ( polar molecul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g.  H bo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articles far apa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no fixed volu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mpressi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brational, rotational, translational- straight line motion ( unless collisions occur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fast motion- high E</a:t>
                      </a:r>
                      <a:r>
                        <a:rPr b="0" lang="en-CA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very we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generally non polar molecu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ondon dispersion forces (temp dipol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rge molecules have more dispersion forces because of large # of atoms ( can form more temp dipoles) and therefore tend to be liquids rather than g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G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es expand as the temperature increases (much more than water and sol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es have very low viscosity (they flow fast, fluidity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Gases have much lower densities than solids or liqui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 ALL Gases are miscible (some liquids are miscible yet some are immiscible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inetic Molecular Theory of 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DEAL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olume of an individual gas molecule is negligible compared to the volume of the 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no attractive or repulsive forces between gas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 molecules move randomly in all directions in straight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gas molecule collisions are perfectly elastic (energy is conserv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verage kinetic energy of gas molecules is directly related to the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het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ttp://phet.colorado.edu/en/simulation/gas-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1"/>
          </p:cNvPr>
          <p:cNvSpPr/>
          <p:nvPr/>
        </p:nvSpPr>
        <p:spPr>
          <a:xfrm>
            <a:off x="2124000" y="3141720"/>
            <a:ext cx="3600360" cy="1224000"/>
          </a:xfrm>
          <a:custGeom>
            <a:avLst/>
            <a:gdLst>
              <a:gd name="textAreaLeft" fmla="*/ 79200 w 3600360"/>
              <a:gd name="textAreaRight" fmla="*/ 3521160 w 360036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63523" h="21600">
                <a:moveTo>
                  <a:pt x="0" y="0"/>
                </a:moveTo>
                <a:lnTo>
                  <a:pt x="63523" y="0"/>
                </a:lnTo>
                <a:lnTo>
                  <a:pt x="63523" y="21600"/>
                </a:lnTo>
                <a:lnTo>
                  <a:pt x="0" y="21600"/>
                </a:lnTo>
                <a:close/>
              </a:path>
              <a:path fill="lightenLess" w="63523" h="21600">
                <a:moveTo>
                  <a:pt x="0" y="0"/>
                </a:moveTo>
                <a:lnTo>
                  <a:pt x="63523" y="0"/>
                </a:lnTo>
                <a:lnTo>
                  <a:pt x="62123" y="1400"/>
                </a:lnTo>
                <a:lnTo>
                  <a:pt x="1400" y="1400"/>
                </a:lnTo>
                <a:close/>
              </a:path>
              <a:path fill="darken" w="63523" h="21600">
                <a:moveTo>
                  <a:pt x="63523" y="0"/>
                </a:moveTo>
                <a:lnTo>
                  <a:pt x="63523" y="21600"/>
                </a:lnTo>
                <a:lnTo>
                  <a:pt x="62123" y="20200"/>
                </a:lnTo>
                <a:lnTo>
                  <a:pt x="62123" y="1400"/>
                </a:lnTo>
                <a:close/>
              </a:path>
              <a:path fill="darkenLess" w="63523" h="21600">
                <a:moveTo>
                  <a:pt x="63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123" y="20200"/>
                </a:lnTo>
                <a:close/>
              </a:path>
              <a:path fill="lighten" w="63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3523" h="21600">
                <a:moveTo>
                  <a:pt x="24755" y="3794"/>
                </a:moveTo>
                <a:lnTo>
                  <a:pt x="38768" y="10800"/>
                </a:lnTo>
                <a:lnTo>
                  <a:pt x="247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actors which influence pres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  Mass of particl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 Speed of part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  Number of particl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.  Volume of 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il_fi" descr=""/>
          <p:cNvPicPr/>
          <p:nvPr/>
        </p:nvPicPr>
        <p:blipFill>
          <a:blip r:embed="rId1"/>
          <a:srcRect l="0" t="15074" r="57164" b="17153"/>
          <a:stretch/>
        </p:blipFill>
        <p:spPr>
          <a:xfrm>
            <a:off x="5364000" y="1989000"/>
            <a:ext cx="25606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serving atmospheric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sure in actio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700280"/>
            <a:ext cx="820872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CALL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as pressure is created by the particles of the gas hitting the contain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essure is the force exerted over a certain area (P=F/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tandard unit of pressure (SI) is the pasc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pa= 1N/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04:51:46Z</dcterms:created>
  <dc:creator>Natalya</dc:creator>
  <dc:description/>
  <dc:language>en-US</dc:language>
  <cp:lastModifiedBy>Natalya</cp:lastModifiedBy>
  <dcterms:modified xsi:type="dcterms:W3CDTF">2011-12-15T21:38:55Z</dcterms:modified>
  <cp:revision>17</cp:revision>
  <dc:subject/>
  <dc:title>11.1 States of Matter and Kinetic Molecular Theory of Gases</dc:title>
</cp:coreProperties>
</file>